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664-2D99-45EA-894E-9A394ED4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3E66-0BD8-4D3C-B5AD-5362B89F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8D7F-DB19-42F5-A0BB-AE7DD30E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C946-37D0-4FD5-AED0-1D02956B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CDC0-3C2B-4B72-AE01-89626E9F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78A-B1CC-4568-A935-CD738A4A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F18-9753-40E5-B98E-D57E7C86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C96-9C06-4F39-B473-EA65F5C0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BC2-4A05-4945-A524-0BF08357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F152-C8B2-49D6-A09C-0A596B80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F706-2C41-4A5A-B4B3-266B6369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CEA3-930E-40C5-A9D7-8843E1CE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56B6-52C2-4851-BE94-9F436565D62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08360" y="4797360"/>
            <a:ext cx="5329440" cy="360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يا يسوع ربن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395280" y="0"/>
            <a:ext cx="47768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َ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نوراً من نور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جئناكَ وقلبُ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بالحبِّ مغمور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907920"/>
            <a:ext cx="5113440" cy="746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فاقبلْ منّا حبَّ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27640" y="0"/>
            <a:ext cx="44877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يا يسوعُ ما لنا حبٌ سوا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أنتَ نوِّر عقلَنا حتى نرا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0560" y="620640"/>
            <a:ext cx="5113440" cy="722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في القربانِ أعطِ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يا ربّ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أن نلقاكَ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396720" y="0"/>
            <a:ext cx="4488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مَّنا يا مريمُ البكرُ ندعوكِ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يُرنِّمُ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حنُ بنوكِ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92280"/>
            <a:ext cx="5113440" cy="72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ِنكِ نتقدَّمُ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ركينا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رجوكِ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3" name=""/>
          <p:cNvSpPr/>
          <p:nvPr/>
        </p:nvSpPr>
        <p:spPr>
          <a:xfrm>
            <a:off x="395280" y="0"/>
            <a:ext cx="47768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َ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نوراً من نور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جئناكَ وقلبُ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بالحبِّ مغمور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7280" y="907920"/>
            <a:ext cx="5113440" cy="10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اقبلْ منّا حبَّنا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5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7:09:33Z</dcterms:created>
  <dc:creator>Charbel Azar</dc:creator>
  <dc:description/>
  <dc:language>en-US</dc:language>
  <cp:lastModifiedBy>ف</cp:lastModifiedBy>
  <dcterms:modified xsi:type="dcterms:W3CDTF">2006-09-18T10:12:17Z</dcterms:modified>
  <cp:revision>6</cp:revision>
  <dc:subject/>
  <dc:title>Slide 1</dc:title>
</cp:coreProperties>
</file>